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F8F883-2E89-414F-BCCA-25A7CC8D7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E71E2B-50AE-4445-8389-2E8D9E20C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15C777-D979-48B3-8B25-722146A97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291D40-0C2B-44D7-B780-015D5D1A1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25AD70-6C78-4F49-BB63-C79EA8A0E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52306E-5130-47DB-B783-E177EA21D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008E5A-CD9B-467B-9156-29B12D329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87DA86-E698-48EE-9B56-3F57DDDC5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BBB8D3-0FD6-42A7-9508-476064399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DE9525-BC3E-456E-93FC-EB6933A3B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163C15-6319-4FC3-8D29-A0ACD18B6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8C48F6-018D-4419-9D86-74ED17512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7B6CE9-C08C-480D-BCE3-9BA913C2F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3E7FFC-817F-4354-9866-BB28952C4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F77567-812A-4489-87D0-5FEE0FBEB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543B6D-71DA-43C6-9C60-C1E42C67A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5CCDDE-50D8-4D50-8637-EB8B239A5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AF97E9-3F80-495C-A7A7-4BFEFFCE8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388F05-9F58-4674-8EC2-EDEBB61A4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73EDF5-1634-4A4B-A180-FC0D23576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73299C-9776-46A6-8A54-D3B145DB1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17DB67-1E5E-450C-A37C-E905761DA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DE1A59-CA3C-495A-AC41-F03A2C6E7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1943E5-CED9-4859-9288-B4861F057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30AC2D-6CA8-45AF-B215-2DC1DDD7C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E1A7C8-476F-4D51-8ED2-7D8719CA2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490136-58E8-4C2A-AA12-E35280F59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CACB42-9AF1-4A5C-8C33-E4DB9A1A8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EBC417-CEFF-4456-954A-4C036DA36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22F7CD-43AA-41AB-B0A5-2BC4A4955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2D282-57FD-496C-8EEE-7320C7BDF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EB71BB-A9F1-40FA-B8F8-155FEA310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E67A2C-9D5A-4614-B973-5770668E1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CAC07E-CF2D-4C7B-8B7A-C5F50D77C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531054-3C53-43CE-9A66-0881B7D5B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B0102A-775C-419D-8335-AEE575551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B38B6C-AB41-4A51-A9CD-214F90218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4648BA-DFF9-451A-BA27-10082E9E1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AE1509-BE9C-4F67-8D9C-6442BAF98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D657B0-BD10-42C4-B793-A810059B7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99C9DA-5C53-4574-B8C4-41DBAF112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D5489-B2BA-49BE-8B03-37734177D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4F3617-44F1-4893-A9EE-DA2D07F0F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3E31CA-9CB2-4281-9CF0-270B85595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0E093D-6736-4B0A-9A3A-1EF7C2DE2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111D70-2C2F-4683-9291-0FA80B118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D98FF9-2BE2-4639-AC24-D53D922F4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67D38-762F-4F14-87DC-62D614472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DED3D-06D4-4518-B7C6-9788C3B65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76ED5-4B33-4ECC-AB66-2426D3135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6E67E-EC38-47D8-9B4B-09FF4CDF8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D0E24-9148-4B88-8188-7959DBA9B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EEC4B-1CE9-4FF7-AF75-1DA174E48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D8AAF-B5FF-483A-B60A-853D4A513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BB1C1-92C7-4924-8234-FA7D7EA45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BB86E-076B-4D5F-BCEB-7F2E1686F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92F99-2177-466E-9516-A9B2EA6DA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3F4C0-4FE8-4246-A403-678220707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CCBEE-9EA0-4775-AF48-234318A3C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88EA5-425B-4BE3-83A6-718E26EA7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5479F-6A0D-4418-AF38-3C0FDD697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144E7-A48D-457C-952D-ADCC009B1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770E3-8D3E-403C-AE7D-4EFB253F4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CC802-2665-4A04-BCB4-6424A7E9C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55316-9586-4C39-85A5-517179DCD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67D80-4055-43BD-8050-485A1D58A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0686E-E100-4779-95F5-82F1F9D1D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C98DE-710E-4AB2-9039-70F88F39F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5B3F0-A314-42E0-A5B9-01A1DCA80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49B534-05EA-4183-9283-336AF9957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7771A7-8673-4CF5-86CF-8D9F25CB4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335478-4941-48F5-9E8C-B8DAE3F5E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3B72FB-F48C-4856-9799-55891768B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8B4E9A-D9AD-4765-A8E0-38DAD0295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6AD431-5BB6-4C91-9B01-AB1894DAE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C9F0DE-84E4-4BC0-8925-0C574DE38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F55014-6532-461C-8CC3-C84BFDD80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F9B7BF-8AA9-4E18-996D-D5AD76587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2C5C9E-3910-441B-9EE2-4072FCBCE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C39425-B968-4E60-9497-E75A79B81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7D71FA-ADF2-42A1-9968-6F737A3CE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407A6C-966C-4367-9D0B-77A4DFF4D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A0A088-787F-4DE2-9BCF-347441801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954D6D-2606-4497-93B8-1F26A67E5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B53928-3048-4C77-956F-C38838B21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D07384-756A-47C3-A53E-C81AC8AF3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1BF3F9-1E2F-4C25-B3E4-98D84F63C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BDA99F-71FE-4F01-9FF7-739F511E4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618A9D-87E7-448A-A4CC-40A291CC2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51E2C4-978C-4E06-AD09-4ED25AD8B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5B580D-11D6-46E2-A63C-2FDB82A0C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E2CD5C-1FDD-454A-B16B-003893060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2CA70C-655C-470E-8178-2E6E82683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13A1CA-97C7-44B3-8E3D-BB9E53999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0B0900-03A7-4068-B168-50D0C5699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5BCD4B-2D48-4E02-90C2-C5B67EFB7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046295-11C0-4C8B-BE36-90FC3A091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507356-4F91-42C8-ACF1-4A616BC1D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892758-5C58-49D5-B253-436AEA2F2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D40CDE-CCBB-4B6A-9D52-0EF438F10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334861-A343-4BD2-94F8-3071D934A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FABE8E-CF2B-4A40-B35B-98EB92920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1199BC-19C4-4229-8085-AA6C598AE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B74AA9-0035-4A6C-999D-80D08D1C5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8C2B7C-5BF1-48C4-82AC-78868D242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2616B6-6C4B-437A-BA28-2A44BA784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A71A86-0045-4DFD-BF29-846F2611E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80F4A0-6F99-42B1-8675-B8C1A3FDC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5E4EFB-D4B8-44E5-B74C-801BFAF7B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679A5C-516F-4FA8-81D3-2929FBF58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203A0F-48D4-4954-9F86-9EBC20380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9218F1-0D95-4DF8-BA47-CC9953A97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52303C-DB0B-4B38-AC7C-9D961AB1D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D2FD9F-A077-4970-A847-6B350D9C4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B3A285-DFEB-486F-A76E-CE16523B8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11FF63-5C3E-43BD-B2D1-C0C89ED37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EDF923-5095-4B78-8673-17E1F9540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051BDA-2661-4539-963B-962FCA603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2BCB3D-1EC7-474B-861E-ADD5CD063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D13768-BDB5-4ACB-B62C-03CCDBC65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B2B4B8-3C19-4975-A9D2-6E3289373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63B55B-F5BC-4F47-9DAD-06373A4D4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104D61-118D-40FA-9D25-403ADAB67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1A0583-67F7-4256-AC71-7CD63E7C2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13D2A9-0F1E-4833-B620-AFF7C00EA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D47CB5-9FB5-4B57-B7B3-3565479C4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F61E7B-4088-4E64-B1FA-FD9903B70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CB3CDB-4933-4FCA-B9CE-FB59233E0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1BC649-D94B-4FCD-82DF-31C8E3C4D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C6A4FA-41C6-4071-88F0-F57FE0707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74D418-0BF8-4223-9321-F97486C31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B40A88-386E-40AB-91E1-AD016C06D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09.xml"/><Relationship Id="rId8" Type="http://schemas.openxmlformats.org/officeDocument/2006/relationships/slideLayout" Target="../slideLayouts/slideLayout110.xml"/><Relationship Id="rId9" Type="http://schemas.openxmlformats.org/officeDocument/2006/relationships/slideLayout" Target="../slideLayouts/slideLayout111.xml"/><Relationship Id="rId10" Type="http://schemas.openxmlformats.org/officeDocument/2006/relationships/slideLayout" Target="../slideLayouts/slideLayout112.xml"/><Relationship Id="rId11" Type="http://schemas.openxmlformats.org/officeDocument/2006/relationships/slideLayout" Target="../slideLayouts/slideLayout113.xml"/><Relationship Id="rId12" Type="http://schemas.openxmlformats.org/officeDocument/2006/relationships/slideLayout" Target="../slideLayouts/slideLayout114.xml"/><Relationship Id="rId13" Type="http://schemas.openxmlformats.org/officeDocument/2006/relationships/slideLayout" Target="../slideLayouts/slideLayout115.xml"/><Relationship Id="rId14" Type="http://schemas.openxmlformats.org/officeDocument/2006/relationships/slideLayout" Target="../slideLayouts/slideLayout116.xml"/><Relationship Id="rId15" Type="http://schemas.openxmlformats.org/officeDocument/2006/relationships/slideLayout" Target="../slideLayouts/slideLayout117.xml"/><Relationship Id="rId16" Type="http://schemas.openxmlformats.org/officeDocument/2006/relationships/slideLayout" Target="../slideLayouts/slideLayout118.xml"/><Relationship Id="rId17" Type="http://schemas.openxmlformats.org/officeDocument/2006/relationships/slideLayout" Target="../slideLayouts/slideLayout119.xml"/><Relationship Id="rId18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33.xml"/><Relationship Id="rId8" Type="http://schemas.openxmlformats.org/officeDocument/2006/relationships/slideLayout" Target="../slideLayouts/slideLayout134.xml"/><Relationship Id="rId9" Type="http://schemas.openxmlformats.org/officeDocument/2006/relationships/slideLayout" Target="../slideLayouts/slideLayout135.xml"/><Relationship Id="rId10" Type="http://schemas.openxmlformats.org/officeDocument/2006/relationships/slideLayout" Target="../slideLayouts/slideLayout136.xml"/><Relationship Id="rId11" Type="http://schemas.openxmlformats.org/officeDocument/2006/relationships/slideLayout" Target="../slideLayouts/slideLayout137.xml"/><Relationship Id="rId12" Type="http://schemas.openxmlformats.org/officeDocument/2006/relationships/slideLayout" Target="../slideLayouts/slideLayout138.xml"/><Relationship Id="rId13" Type="http://schemas.openxmlformats.org/officeDocument/2006/relationships/slideLayout" Target="../slideLayouts/slideLayout139.xml"/><Relationship Id="rId14" Type="http://schemas.openxmlformats.org/officeDocument/2006/relationships/slideLayout" Target="../slideLayouts/slideLayout140.xml"/><Relationship Id="rId15" Type="http://schemas.openxmlformats.org/officeDocument/2006/relationships/slideLayout" Target="../slideLayouts/slideLayout141.xml"/><Relationship Id="rId16" Type="http://schemas.openxmlformats.org/officeDocument/2006/relationships/slideLayout" Target="../slideLayouts/slideLayout142.xml"/><Relationship Id="rId17" Type="http://schemas.openxmlformats.org/officeDocument/2006/relationships/slideLayout" Target="../slideLayouts/slideLayout143.xml"/><Relationship Id="rId18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73.xml"/><Relationship Id="rId8" Type="http://schemas.openxmlformats.org/officeDocument/2006/relationships/slideLayout" Target="../slideLayouts/slideLayout74.xml"/><Relationship Id="rId9" Type="http://schemas.openxmlformats.org/officeDocument/2006/relationships/slideLayout" Target="../slideLayouts/slideLayout75.xml"/><Relationship Id="rId10" Type="http://schemas.openxmlformats.org/officeDocument/2006/relationships/slideLayout" Target="../slideLayouts/slideLayout76.xml"/><Relationship Id="rId11" Type="http://schemas.openxmlformats.org/officeDocument/2006/relationships/slideLayout" Target="../slideLayouts/slideLayout77.xml"/><Relationship Id="rId12" Type="http://schemas.openxmlformats.org/officeDocument/2006/relationships/slideLayout" Target="../slideLayouts/slideLayout78.xml"/><Relationship Id="rId13" Type="http://schemas.openxmlformats.org/officeDocument/2006/relationships/slideLayout" Target="../slideLayouts/slideLayout79.xml"/><Relationship Id="rId14" Type="http://schemas.openxmlformats.org/officeDocument/2006/relationships/slideLayout" Target="../slideLayouts/slideLayout80.xml"/><Relationship Id="rId15" Type="http://schemas.openxmlformats.org/officeDocument/2006/relationships/slideLayout" Target="../slideLayouts/slideLayout81.xml"/><Relationship Id="rId16" Type="http://schemas.openxmlformats.org/officeDocument/2006/relationships/slideLayout" Target="../slideLayouts/slideLayout82.xml"/><Relationship Id="rId17" Type="http://schemas.openxmlformats.org/officeDocument/2006/relationships/slideLayout" Target="../slideLayouts/slideLayout83.xml"/><Relationship Id="rId18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85.xml"/><Relationship Id="rId8" Type="http://schemas.openxmlformats.org/officeDocument/2006/relationships/slideLayout" Target="../slideLayouts/slideLayout86.xml"/><Relationship Id="rId9" Type="http://schemas.openxmlformats.org/officeDocument/2006/relationships/slideLayout" Target="../slideLayouts/slideLayout87.xml"/><Relationship Id="rId10" Type="http://schemas.openxmlformats.org/officeDocument/2006/relationships/slideLayout" Target="../slideLayouts/slideLayout88.xml"/><Relationship Id="rId11" Type="http://schemas.openxmlformats.org/officeDocument/2006/relationships/slideLayout" Target="../slideLayouts/slideLayout89.xml"/><Relationship Id="rId12" Type="http://schemas.openxmlformats.org/officeDocument/2006/relationships/slideLayout" Target="../slideLayouts/slideLayout90.xml"/><Relationship Id="rId13" Type="http://schemas.openxmlformats.org/officeDocument/2006/relationships/slideLayout" Target="../slideLayouts/slideLayout91.xml"/><Relationship Id="rId14" Type="http://schemas.openxmlformats.org/officeDocument/2006/relationships/slideLayout" Target="../slideLayouts/slideLayout92.xml"/><Relationship Id="rId15" Type="http://schemas.openxmlformats.org/officeDocument/2006/relationships/slideLayout" Target="../slideLayouts/slideLayout93.xml"/><Relationship Id="rId16" Type="http://schemas.openxmlformats.org/officeDocument/2006/relationships/slideLayout" Target="../slideLayouts/slideLayout94.xml"/><Relationship Id="rId17" Type="http://schemas.openxmlformats.org/officeDocument/2006/relationships/slideLayout" Target="../slideLayouts/slideLayout95.xml"/><Relationship Id="rId18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2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4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399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71A73-37FE-48FA-BA03-E94808DB31AA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7"/>
    <p:sldLayoutId id="2147483767" r:id="rId8"/>
    <p:sldLayoutId id="2147483768" r:id="rId9"/>
    <p:sldLayoutId id="2147483769" r:id="rId10"/>
    <p:sldLayoutId id="2147483770" r:id="rId11"/>
    <p:sldLayoutId id="2147483771" r:id="rId12"/>
    <p:sldLayoutId id="2147483772" r:id="rId13"/>
    <p:sldLayoutId id="2147483773" r:id="rId14"/>
    <p:sldLayoutId id="2147483774" r:id="rId15"/>
    <p:sldLayoutId id="2147483775" r:id="rId16"/>
    <p:sldLayoutId id="2147483776" r:id="rId17"/>
    <p:sldLayoutId id="2147483777" r:id="rId18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443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444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AA12B-5D51-45CD-B675-9A6E436EF8EE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485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486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487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488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C3F45-072B-47A8-9FDD-2A1F114C15FD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7"/>
    <p:sldLayoutId id="2147483793" r:id="rId8"/>
    <p:sldLayoutId id="2147483794" r:id="rId9"/>
    <p:sldLayoutId id="2147483795" r:id="rId10"/>
    <p:sldLayoutId id="2147483796" r:id="rId11"/>
    <p:sldLayoutId id="2147483797" r:id="rId12"/>
    <p:sldLayoutId id="2147483798" r:id="rId13"/>
    <p:sldLayoutId id="2147483799" r:id="rId14"/>
    <p:sldLayoutId id="2147483800" r:id="rId15"/>
    <p:sldLayoutId id="2147483801" r:id="rId16"/>
    <p:sldLayoutId id="2147483802" r:id="rId17"/>
    <p:sldLayoutId id="2147483803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45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B2256-A263-4814-8EE3-24EC52914DA5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89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C1DCC-CB04-4C08-AFA9-F2F5C0B30420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135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CEB3F-BE06-4577-80D9-269326DA632A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179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ED710-DAEA-4EB4-89FE-2FE8F66C0CB7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223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224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5FA67-A824-48DF-B5CE-8AEA9515A666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267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268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50332-22E6-44D5-8C7D-E99C257041F4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7"/>
    <p:sldLayoutId id="2147483728" r:id="rId8"/>
    <p:sldLayoutId id="2147483729" r:id="rId9"/>
    <p:sldLayoutId id="2147483730" r:id="rId10"/>
    <p:sldLayoutId id="2147483731" r:id="rId11"/>
    <p:sldLayoutId id="2147483732" r:id="rId12"/>
    <p:sldLayoutId id="2147483733" r:id="rId13"/>
    <p:sldLayoutId id="2147483734" r:id="rId14"/>
    <p:sldLayoutId id="2147483735" r:id="rId15"/>
    <p:sldLayoutId id="2147483736" r:id="rId16"/>
    <p:sldLayoutId id="2147483737" r:id="rId17"/>
    <p:sldLayoutId id="2147483738" r:id="rId18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311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312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07741-6F7A-4F36-8DAB-9097BC5FB674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7"/>
    <p:sldLayoutId id="2147483741" r:id="rId8"/>
    <p:sldLayoutId id="2147483742" r:id="rId9"/>
    <p:sldLayoutId id="2147483743" r:id="rId10"/>
    <p:sldLayoutId id="2147483744" r:id="rId11"/>
    <p:sldLayoutId id="2147483745" r:id="rId12"/>
    <p:sldLayoutId id="2147483746" r:id="rId13"/>
    <p:sldLayoutId id="2147483747" r:id="rId14"/>
    <p:sldLayoutId id="2147483748" r:id="rId15"/>
    <p:sldLayoutId id="2147483749" r:id="rId16"/>
    <p:sldLayoutId id="2147483750" r:id="rId17"/>
    <p:sldLayoutId id="2147483751" r:id="rId18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355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356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977CF-5D4C-46F7-9008-0736A08555C0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85716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Descentralização da Gestão do município de Ponte Alta do Bom Jesu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Espaço Reservado para Número de Slid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6A2E9-F56A-4674-ACAC-68848AA4C9F0}" type="slidenum">
              <a:rPr b="0" lang="pt-B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9" name="Tabela 4" descr=""/>
          <p:cNvPicPr/>
          <p:nvPr/>
        </p:nvPicPr>
        <p:blipFill>
          <a:blip r:embed="rId1"/>
          <a:stretch/>
        </p:blipFill>
        <p:spPr>
          <a:xfrm>
            <a:off x="212760" y="1712880"/>
            <a:ext cx="8077320" cy="519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16T12:40:42Z</dcterms:created>
  <dc:creator>Cleison Lima Moura</dc:creator>
  <dc:description/>
  <dc:language>en-US</dc:language>
  <cp:lastModifiedBy>marleidesilva</cp:lastModifiedBy>
  <cp:lastPrinted>2017-04-12T15:53:19Z</cp:lastPrinted>
  <dcterms:modified xsi:type="dcterms:W3CDTF">2017-04-19T19:16:40Z</dcterms:modified>
  <cp:revision>929</cp:revision>
  <dc:subject/>
  <dc:title>Apresentação do PowerPoint</dc:title>
</cp:coreProperties>
</file>